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5758-DC30-45C7-9C39-755940A81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image taken from: http://www.huffingtonpost.com/2014/08/06/ebola-myths_n_565566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dc.gov/vhf/ebola/outbreaks/2014-west-africa/distribution-map.html#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&amp; video link from: http://www.npr.org/blogs/goatsandsoda/2014/12/04/368513073/idris-elba-plays-a-soccer-coach-out-to-crush-ebola-in-new-ad-campa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Measles_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www.cdc.gov/measles/cases-outbrea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3EA-5261-4A02-AC3C-FB90E29B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4B8-59AD-4ED3-9277-5BB73BE3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F8C-7D09-4882-9D80-F5AC786B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EEA-9028-464A-9ED2-AA2A055C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033-71F8-44DE-B631-F631E8BC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963C-BA61-4BCB-9565-D7FF113B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BD5-70A3-40B7-A69F-3D839054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2DC-CA7B-43B6-A4F0-5D539EB5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681-F44D-417E-953B-7BC142FB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A84-FD68-4971-A9C3-926AC19A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E2B-C3C5-4EBF-AB59-0CA963B5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73E-E6C0-4EA8-95C0-856CD719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3FAF-FB9C-44FC-9EF3-79687080A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WnnU_o010E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dc.gov/vhf/ebola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bc.ca/player/News/Canada/Toronto/ID/2652577776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ola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Ebola outbreak in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f February 10th, 2015, 9177 people have died during this outb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African countries most affected are Liberia, Guinea, and Sierra L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43160" y="609480"/>
            <a:ext cx="6457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14440" y="609480"/>
            <a:ext cx="6313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DC Fou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mpaign including print &amp; billboard ads, radio spots, and videos was launched to educate West Africans about Eb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WnnU_o010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9720" y="2703600"/>
            <a:ext cx="441936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er for Diseas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C has a detailed website about Ebola that is regularly upd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vhf/ebol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les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s from CBC Toro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look at information from February 7th on the measles outbrea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bc.ca/player/News/Canada/Toronto/ID/2652577776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3T21:58:33Z</dcterms:created>
  <dc:creator>rubina khan</dc:creator>
  <dc:description/>
  <dc:language>en-US</dc:language>
  <cp:lastModifiedBy>rubina khan</cp:lastModifiedBy>
  <dcterms:modified xsi:type="dcterms:W3CDTF">2015-02-11T04:11:01Z</dcterms:modified>
  <cp:revision>10</cp:revision>
  <dc:subject/>
  <dc:title>PowerPoint Presentation</dc:title>
</cp:coreProperties>
</file>